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9E5-B064-455F-81A7-A4433D62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672-E2E5-40E5-961F-E4C203B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5A2-6073-4EC3-97DC-A29932A9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A9E-AFB7-4DDC-B653-AE1FED87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F72-BC28-4C0E-8A93-15788B3E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3EE-35DE-4D63-BCE3-553D2CC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0E1D-1250-4510-B8C7-B402BBD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621-C5E7-4BA7-9203-17308F14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839F-BBE9-4A48-B9A5-6747DD3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BDD5-A5A8-42BE-A3B6-855A4C8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79EB-C230-41D5-B029-B346B53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A0A-4988-417E-A2D1-0C95E64B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722A-A6E2-4C3D-9B10-14C94F6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B74E-45D8-49B6-8B6C-26816FC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D531-EC02-429A-A1F3-87BEF31B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B9B-787A-444F-9C98-E57DFBAE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56E-6C01-4FAB-8847-B9F5C5B9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C6E3-3DA6-4C24-8609-7026CFAD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9348-D655-4FAF-8A5D-BFBD7F9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CD1B-B291-4EDC-8589-606E35D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E487-7C72-4D18-B20E-1D4C6EFE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6308-8B26-4D40-BAFF-92696F0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65C-8EFE-4B22-B809-F93879C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BEF4-FE81-4F94-BF8D-524679C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F01B-C65C-4D66-AA35-7B8FF94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1B5A-5977-421E-9BA0-BEE12CF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12DB-7A31-4BB8-AADC-F6910BB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035B-93C0-4732-A66C-E68A5DA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0B45-0734-4BB8-A4B4-79362A4A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DEA1-868D-4E63-B48A-AE42C8AF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C408-D861-4392-804A-108AD397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65AD-9103-449B-9A9F-BF440D25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EAB8-57EC-435E-ABEF-5AEB070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A41-9051-44CF-9173-F1EA661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784D-5D3E-4D72-918A-8E14937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9873-7225-4A41-B1B0-2067B5D2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46F1-C5D6-4ABF-B3A2-1CCC3A3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0A08-87FC-41BE-9CDE-1B6D75C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1975-285A-40AA-9962-763C161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404A-AA38-487A-A8A5-01D6347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D179-4EA8-4486-80DC-6ADF6CD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019A-AC25-46E1-BE45-F199B532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C1DB-D573-43D9-AB82-B81BEF3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653D-9E6F-4CD8-8E8B-0E17875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6E0-446E-4F9B-AE2B-BBB8FEAE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E368-4667-4CCC-B6D3-FC93532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9876C-66CF-4851-9B75-351DF49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324B-2297-4FED-BF4A-7081BE89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033F-19AC-4BD8-A67E-8FD30FD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91D3-078F-4CA0-ADA5-F5E56B7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A4EC-A74F-4DCD-819B-189D7CA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FCEF-88AF-4588-9390-C0EEA7E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85AA-B3AB-402F-9C9B-BA32DEB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54C4-CD8B-4192-8D8E-CBA26B3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8C0D-B5EB-4809-9906-D27D7099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14E-1372-4935-8FE8-38FF1ABF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21F7-55ED-4C3D-9875-925C1FB4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CAA4-902C-49AC-AF51-E1E3ACAA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5804-6440-4CC5-B890-D4CB2BA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BE20A-D552-4B9D-B794-5078F8B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2FCC-F262-431D-B83C-DFC4923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D612F-EA10-4600-ACCE-7327FF2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1103-7347-4314-81F3-52F991D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9702-4A28-45C3-8A93-0F13355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191DD-E5C0-43A0-AE13-9999A16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CECB-D69A-4062-88A4-10D22DC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4FE-470F-4EAD-AA79-6A4A3EB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8241-C8DA-4B94-873B-2580DF3E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F486-82D1-4BEA-B799-83FD6FA6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603D-C2AB-4FB7-BA8A-1171AA20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6BBE3-3A77-4409-AC81-4EB75DD0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20C2-F141-4C78-BE7A-342CCAB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1372-D9DA-4722-9882-ABDCF0C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9521-7EF8-4911-9619-696E5EC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BB249-3F77-45A6-8D7E-C3A260B1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67D0-7B0B-4241-84EB-C64F8C31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38F0-B1D8-4F1B-A833-0AD086C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CB9-0E0C-48CA-9D22-9C163AA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5EDD-BC4A-4368-AD03-92FC8C1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3A32-7401-44FB-A2AD-AAB08DD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2FDEF-E75A-4EF4-BEBE-B8A5038A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D2FE-02D9-4102-9114-81384113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398C-1852-468E-B37F-2DC788C5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FE08-A661-4B5A-93C1-9C9AC5E8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AEF0-0F5A-455E-9B9A-04A774A3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B00C0-6A6B-424C-9B1B-26C40AA0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8095-C5FC-4F65-8095-EED7F6AF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42A3D-D77D-440D-8B28-B60E93E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F7E-CE1A-4066-8C59-7C89B1F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4C95-2157-4031-B10A-6E432AB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C648-2B0F-4065-B8C2-1B3B786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B7FD-A88D-4FCD-9894-82D3D9B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B2517-EA1E-427F-A364-E749CF6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EFBD-9B9D-432F-8206-224758B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7471B-4C17-4B1E-BC62-BD591132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F1C4-3722-4BEA-B36F-48297A2F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6ED6-A44B-4456-A2C9-9CC17C00B3A4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DDE1-A4F4-4377-A9CE-16BD05812F67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895-35FF-4A09-8FB1-5B248E92DE7B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93B3-6B22-492D-9273-72721DD46652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360-5789-4EFB-B48F-03058562D5BD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14F9-D373-4A3B-A48F-594E47A577D1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0D0-39A1-4D35-ADBC-66E31D144EA6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E72-D20F-4594-9727-721F5AE8C4DC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2.ignatius.edu/faculty/decarlo/Centripetal%20force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englishhtm/ConicalPendulum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ith systems that convert kinetic energy into potential energy account must be taken for motion in a cir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good example of this would be a glider that performs a loop after a d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4"/>
          <p:cNvSpPr/>
          <p:nvPr/>
        </p:nvSpPr>
        <p:spPr>
          <a:xfrm>
            <a:off x="1982880" y="4199040"/>
            <a:ext cx="3825720" cy="1569960"/>
          </a:xfrm>
          <a:custGeom>
            <a:avLst/>
            <a:gdLst/>
            <a:ahLst/>
            <a:rect l="l" t="t" r="r" b="b"/>
            <a:pathLst>
              <a:path w="3825026" h="1571222">
                <a:moveTo>
                  <a:pt x="0" y="0"/>
                </a:moveTo>
                <a:cubicBezTo>
                  <a:pt x="568817" y="533400"/>
                  <a:pt x="1137634" y="1066800"/>
                  <a:pt x="1584102" y="1313645"/>
                </a:cubicBezTo>
                <a:cubicBezTo>
                  <a:pt x="2030570" y="1560490"/>
                  <a:pt x="2427668" y="1519707"/>
                  <a:pt x="2678806" y="1481070"/>
                </a:cubicBezTo>
                <a:cubicBezTo>
                  <a:pt x="2929944" y="1442433"/>
                  <a:pt x="3041561" y="1223493"/>
                  <a:pt x="3090930" y="1081825"/>
                </a:cubicBezTo>
                <a:cubicBezTo>
                  <a:pt x="3140299" y="940157"/>
                  <a:pt x="3067319" y="716923"/>
                  <a:pt x="2975020" y="631064"/>
                </a:cubicBezTo>
                <a:cubicBezTo>
                  <a:pt x="2882722" y="545205"/>
                  <a:pt x="2661635" y="560231"/>
                  <a:pt x="2537139" y="566670"/>
                </a:cubicBezTo>
                <a:cubicBezTo>
                  <a:pt x="2412643" y="573109"/>
                  <a:pt x="2298880" y="601014"/>
                  <a:pt x="2228046" y="669701"/>
                </a:cubicBezTo>
                <a:cubicBezTo>
                  <a:pt x="2157212" y="738388"/>
                  <a:pt x="2116429" y="895081"/>
                  <a:pt x="2112136" y="978794"/>
                </a:cubicBezTo>
                <a:cubicBezTo>
                  <a:pt x="2107843" y="1062507"/>
                  <a:pt x="2148626" y="1103290"/>
                  <a:pt x="2202288" y="1171977"/>
                </a:cubicBezTo>
                <a:cubicBezTo>
                  <a:pt x="2255950" y="1240664"/>
                  <a:pt x="2335370" y="1328670"/>
                  <a:pt x="2434108" y="1390918"/>
                </a:cubicBezTo>
                <a:cubicBezTo>
                  <a:pt x="2532846" y="1453166"/>
                  <a:pt x="2717443" y="1519706"/>
                  <a:pt x="2794716" y="1545464"/>
                </a:cubicBezTo>
                <a:cubicBezTo>
                  <a:pt x="2871989" y="1571222"/>
                  <a:pt x="2897747" y="1545464"/>
                  <a:pt x="2897747" y="1545464"/>
                </a:cubicBezTo>
                <a:lnTo>
                  <a:pt x="3825026" y="1558343"/>
                </a:lnTo>
                <a:lnTo>
                  <a:pt x="3825026" y="1558343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1339920" y="3592440"/>
            <a:ext cx="1206360" cy="966960"/>
            <a:chOff x="1339920" y="3592440"/>
            <a:chExt cx="1206360" cy="966960"/>
          </a:xfrm>
        </p:grpSpPr>
        <p:sp>
          <p:nvSpPr>
            <p:cNvPr id="446" name="Freeform 5"/>
            <p:cNvSpPr/>
            <p:nvPr/>
          </p:nvSpPr>
          <p:spPr>
            <a:xfrm>
              <a:off x="1339920" y="3885120"/>
              <a:ext cx="1206360" cy="308520"/>
            </a:xfrm>
            <a:custGeom>
              <a:avLst/>
              <a:gdLst/>
              <a:ahLst/>
              <a:rect l="l" t="t" r="r" b="b"/>
              <a:pathLst>
                <a:path w="1207549" h="308425">
                  <a:moveTo>
                    <a:pt x="77273" y="222854"/>
                  </a:moveTo>
                  <a:cubicBezTo>
                    <a:pt x="81566" y="154167"/>
                    <a:pt x="68389" y="82082"/>
                    <a:pt x="90152" y="16792"/>
                  </a:cubicBezTo>
                  <a:cubicBezTo>
                    <a:pt x="95749" y="0"/>
                    <a:pt x="127846" y="18613"/>
                    <a:pt x="141667" y="29670"/>
                  </a:cubicBezTo>
                  <a:cubicBezTo>
                    <a:pt x="152268" y="38151"/>
                    <a:pt x="151253" y="55137"/>
                    <a:pt x="154546" y="68307"/>
                  </a:cubicBezTo>
                  <a:cubicBezTo>
                    <a:pt x="170998" y="134114"/>
                    <a:pt x="148832" y="157049"/>
                    <a:pt x="244698" y="158459"/>
                  </a:cubicBezTo>
                  <a:lnTo>
                    <a:pt x="1120462" y="171338"/>
                  </a:lnTo>
                  <a:cubicBezTo>
                    <a:pt x="1125860" y="179435"/>
                    <a:pt x="1207549" y="282883"/>
                    <a:pt x="1133341" y="287248"/>
                  </a:cubicBezTo>
                  <a:cubicBezTo>
                    <a:pt x="773329" y="308425"/>
                    <a:pt x="412124" y="278662"/>
                    <a:pt x="51515" y="274369"/>
                  </a:cubicBezTo>
                  <a:cubicBezTo>
                    <a:pt x="17172" y="262921"/>
                    <a:pt x="0" y="268645"/>
                    <a:pt x="0" y="222854"/>
                  </a:cubicBezTo>
                  <a:lnTo>
                    <a:pt x="12879" y="2099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1789560" y="3592440"/>
              <a:ext cx="519480" cy="479160"/>
            </a:xfrm>
            <a:custGeom>
              <a:avLst/>
              <a:gdLst/>
              <a:ahLst/>
              <a:rect l="l" t="t" r="r" b="b"/>
              <a:pathLst>
                <a:path w="519856" h="478519">
                  <a:moveTo>
                    <a:pt x="13526" y="463639"/>
                  </a:moveTo>
                  <a:cubicBezTo>
                    <a:pt x="55792" y="294579"/>
                    <a:pt x="0" y="478519"/>
                    <a:pt x="271104" y="180304"/>
                  </a:cubicBezTo>
                  <a:cubicBezTo>
                    <a:pt x="283011" y="167207"/>
                    <a:pt x="279120" y="145807"/>
                    <a:pt x="283983" y="128788"/>
                  </a:cubicBezTo>
                  <a:cubicBezTo>
                    <a:pt x="287712" y="115735"/>
                    <a:pt x="291514" y="102630"/>
                    <a:pt x="296861" y="90152"/>
                  </a:cubicBezTo>
                  <a:cubicBezTo>
                    <a:pt x="304424" y="72505"/>
                    <a:pt x="310328" y="53385"/>
                    <a:pt x="322619" y="38636"/>
                  </a:cubicBezTo>
                  <a:cubicBezTo>
                    <a:pt x="341822" y="15592"/>
                    <a:pt x="373523" y="8790"/>
                    <a:pt x="399892" y="0"/>
                  </a:cubicBezTo>
                  <a:cubicBezTo>
                    <a:pt x="434797" y="6981"/>
                    <a:pt x="477657" y="7053"/>
                    <a:pt x="502923" y="38636"/>
                  </a:cubicBezTo>
                  <a:cubicBezTo>
                    <a:pt x="511404" y="49237"/>
                    <a:pt x="511509" y="64394"/>
                    <a:pt x="515802" y="77273"/>
                  </a:cubicBezTo>
                  <a:cubicBezTo>
                    <a:pt x="511509" y="150253"/>
                    <a:pt x="519856" y="225096"/>
                    <a:pt x="502923" y="296214"/>
                  </a:cubicBezTo>
                  <a:cubicBezTo>
                    <a:pt x="497298" y="319838"/>
                    <a:pt x="467212" y="329291"/>
                    <a:pt x="451408" y="347729"/>
                  </a:cubicBezTo>
                  <a:cubicBezTo>
                    <a:pt x="441335" y="359481"/>
                    <a:pt x="436595" y="375421"/>
                    <a:pt x="425650" y="386366"/>
                  </a:cubicBezTo>
                  <a:cubicBezTo>
                    <a:pt x="414705" y="397311"/>
                    <a:pt x="398905" y="402215"/>
                    <a:pt x="387014" y="412124"/>
                  </a:cubicBezTo>
                  <a:cubicBezTo>
                    <a:pt x="373022" y="423784"/>
                    <a:pt x="363532" y="440657"/>
                    <a:pt x="348377" y="450760"/>
                  </a:cubicBezTo>
                  <a:cubicBezTo>
                    <a:pt x="322949" y="467712"/>
                    <a:pt x="299194" y="463639"/>
                    <a:pt x="271104" y="4636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571400" y="4180320"/>
              <a:ext cx="441000" cy="379080"/>
            </a:xfrm>
            <a:custGeom>
              <a:avLst/>
              <a:gdLst/>
              <a:ahLst/>
              <a:rect l="l" t="t" r="r" b="b"/>
              <a:pathLst>
                <a:path w="441611" h="378700">
                  <a:moveTo>
                    <a:pt x="193183" y="5213"/>
                  </a:moveTo>
                  <a:cubicBezTo>
                    <a:pt x="126430" y="27464"/>
                    <a:pt x="172603" y="0"/>
                    <a:pt x="141667" y="69607"/>
                  </a:cubicBezTo>
                  <a:cubicBezTo>
                    <a:pt x="139270" y="75000"/>
                    <a:pt x="89584" y="157865"/>
                    <a:pt x="77273" y="172638"/>
                  </a:cubicBezTo>
                  <a:cubicBezTo>
                    <a:pt x="65613" y="186630"/>
                    <a:pt x="51515" y="198396"/>
                    <a:pt x="38636" y="211275"/>
                  </a:cubicBezTo>
                  <a:lnTo>
                    <a:pt x="12878" y="288548"/>
                  </a:lnTo>
                  <a:lnTo>
                    <a:pt x="0" y="327185"/>
                  </a:lnTo>
                  <a:cubicBezTo>
                    <a:pt x="4293" y="340064"/>
                    <a:pt x="2278" y="357341"/>
                    <a:pt x="12878" y="365821"/>
                  </a:cubicBezTo>
                  <a:cubicBezTo>
                    <a:pt x="26700" y="376878"/>
                    <a:pt x="46694" y="378700"/>
                    <a:pt x="64394" y="378700"/>
                  </a:cubicBezTo>
                  <a:cubicBezTo>
                    <a:pt x="158937" y="378700"/>
                    <a:pt x="253284" y="370114"/>
                    <a:pt x="347729" y="365821"/>
                  </a:cubicBezTo>
                  <a:cubicBezTo>
                    <a:pt x="390007" y="337636"/>
                    <a:pt x="435513" y="330141"/>
                    <a:pt x="437881" y="275669"/>
                  </a:cubicBezTo>
                  <a:cubicBezTo>
                    <a:pt x="441611" y="189891"/>
                    <a:pt x="437881" y="103951"/>
                    <a:pt x="437881" y="180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9"/>
          <p:cNvSpPr/>
          <p:nvPr/>
        </p:nvSpPr>
        <p:spPr>
          <a:xfrm>
            <a:off x="5857920" y="350028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ergy converts from: Potential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kinetic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circular kinetic.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kinetic.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264600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1"/>
          <p:cNvSpPr/>
          <p:nvPr/>
        </p:nvSpPr>
        <p:spPr>
          <a:xfrm>
            <a:off x="4003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2"/>
          <p:cNvSpPr/>
          <p:nvPr/>
        </p:nvSpPr>
        <p:spPr>
          <a:xfrm>
            <a:off x="586080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44319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Motion in a circle at a constant speed gives you centripetal acceleration, and thus a centripetal fo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://www2.ignatius.edu/faculty/decarlo/Image67.gif"/>
          <p:cNvPicPr/>
          <p:nvPr/>
        </p:nvPicPr>
        <p:blipFill>
          <a:blip r:embed="rId2"/>
          <a:stretch/>
        </p:blipFill>
        <p:spPr>
          <a:xfrm>
            <a:off x="4857840" y="2857680"/>
            <a:ext cx="2876400" cy="25430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5"/>
          <p:cNvSpPr/>
          <p:nvPr/>
        </p:nvSpPr>
        <p:spPr>
          <a:xfrm>
            <a:off x="993240" y="5643720"/>
            <a:ext cx="739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2.ignatius.edu/faculty/decarlo/Centripetal%20for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hat happens when the thing isn’t swinging in a flat circle, but is actually a pendul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ngsir.netfirms.com/englishhtm/ConicalPendulum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e important thing to resolve from a conical pendulum is the components of each fo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10"/>
          <p:cNvGrpSpPr/>
          <p:nvPr/>
        </p:nvGrpSpPr>
        <p:grpSpPr>
          <a:xfrm>
            <a:off x="2000160" y="2928960"/>
            <a:ext cx="1928880" cy="2214720"/>
            <a:chOff x="2000160" y="2928960"/>
            <a:chExt cx="1928880" cy="2214720"/>
          </a:xfrm>
        </p:grpSpPr>
        <p:sp>
          <p:nvSpPr>
            <p:cNvPr id="381" name="Straight Connector 4"/>
            <p:cNvSpPr/>
            <p:nvPr/>
          </p:nvSpPr>
          <p:spPr>
            <a:xfrm flipH="1">
              <a:off x="2142360" y="2928960"/>
              <a:ext cx="857160" cy="1643400"/>
            </a:xfrm>
            <a:prstGeom prst="line">
              <a:avLst/>
            </a:prstGeom>
            <a:ln w="381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2000160" y="4500720"/>
              <a:ext cx="28548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6"/>
            <p:cNvSpPr/>
            <p:nvPr/>
          </p:nvSpPr>
          <p:spPr>
            <a:xfrm>
              <a:off x="2214360" y="4071960"/>
              <a:ext cx="1714680" cy="1071720"/>
            </a:xfrm>
            <a:prstGeom prst="ellipse">
              <a:avLst/>
            </a:prstGeom>
            <a:noFill/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traight Connector 9"/>
            <p:cNvSpPr/>
            <p:nvPr/>
          </p:nvSpPr>
          <p:spPr>
            <a:xfrm>
              <a:off x="3000240" y="2928960"/>
              <a:ext cx="0" cy="164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1"/>
          <p:cNvSpPr/>
          <p:nvPr/>
        </p:nvSpPr>
        <p:spPr>
          <a:xfrm>
            <a:off x="5429160" y="4572000"/>
            <a:ext cx="357120" cy="2858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"/>
          <p:cNvCxnSpPr/>
          <p:nvPr/>
        </p:nvCxnSpPr>
        <p:spPr>
          <a:xfrm flipV="1">
            <a:off x="5571000" y="3642480"/>
            <a:ext cx="786600" cy="1072440"/>
          </a:xfrm>
          <a:prstGeom prst="straightConnector1">
            <a:avLst/>
          </a:prstGeom>
          <a:ln w="381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7" name="Straight Arrow Connector 14"/>
          <p:cNvCxnSpPr/>
          <p:nvPr/>
        </p:nvCxnSpPr>
        <p:spPr>
          <a:xfrm flipH="1" flipV="1">
            <a:off x="5571360" y="3642480"/>
            <a:ext cx="2520" cy="1072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88" name="Straight Arrow Connector 17"/>
          <p:cNvCxnSpPr/>
          <p:nvPr/>
        </p:nvCxnSpPr>
        <p:spPr>
          <a:xfrm flipH="1">
            <a:off x="5571360" y="4642920"/>
            <a:ext cx="2520" cy="1072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traight Arrow Connector 20"/>
          <p:cNvCxnSpPr/>
          <p:nvPr/>
        </p:nvCxnSpPr>
        <p:spPr>
          <a:xfrm flipV="1">
            <a:off x="5572080" y="4714560"/>
            <a:ext cx="822960" cy="2160"/>
          </a:xfrm>
          <a:prstGeom prst="straightConnector1">
            <a:avLst/>
          </a:prstGeom>
          <a:ln w="38160">
            <a:solidFill>
              <a:srgbClr val="eb641b"/>
            </a:solidFill>
            <a:miter/>
            <a:tailEnd len="med" type="arrow" w="med"/>
          </a:ln>
        </p:spPr>
      </p:cxnSp>
      <p:sp>
        <p:nvSpPr>
          <p:cNvPr id="390" name="TextBox 21"/>
          <p:cNvSpPr/>
          <p:nvPr/>
        </p:nvSpPr>
        <p:spPr>
          <a:xfrm>
            <a:off x="6374880" y="3286080"/>
            <a:ext cx="37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2"/>
          <p:cNvSpPr/>
          <p:nvPr/>
        </p:nvSpPr>
        <p:spPr>
          <a:xfrm>
            <a:off x="6441120" y="45720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3"/>
          <p:cNvSpPr/>
          <p:nvPr/>
        </p:nvSpPr>
        <p:spPr>
          <a:xfrm>
            <a:off x="5369040" y="3286080"/>
            <a:ext cx="36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5440680" y="57862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ection 8A #1 and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neaderthalic nascar driver goes around an icy corner with a radius of 15m in a 740kg car at 12 ms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. Fi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weight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Centripetal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vector dia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road support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angle of the roa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neaderthalic nascar driver goes around an icy corner with a radius of 15m in a 740kg car at 12 ms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. Fi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weight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73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Centripetal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71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vector diagram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ee boa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road support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0 0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angle of the road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44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You should now be able to work through the questions in 8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hen an object is moving at constant speed in a vertical circle there is a constant change in the force balance that it experi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3"/>
          <p:cNvGrpSpPr/>
          <p:nvPr/>
        </p:nvGrpSpPr>
        <p:grpSpPr>
          <a:xfrm>
            <a:off x="4000320" y="2928600"/>
            <a:ext cx="3786480" cy="3572280"/>
            <a:chOff x="4000320" y="2928600"/>
            <a:chExt cx="3786480" cy="3572280"/>
          </a:xfrm>
        </p:grpSpPr>
        <p:sp>
          <p:nvSpPr>
            <p:cNvPr id="403" name="Oval 4"/>
            <p:cNvSpPr/>
            <p:nvPr/>
          </p:nvSpPr>
          <p:spPr>
            <a:xfrm>
              <a:off x="4572000" y="3429000"/>
              <a:ext cx="2571840" cy="2571840"/>
            </a:xfrm>
            <a:prstGeom prst="ellipse">
              <a:avLst/>
            </a:prstGeom>
            <a:noFill/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7072560" y="457200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5715000" y="33573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4429080" y="464364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5786640" y="59295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Down Arrow 9"/>
            <p:cNvSpPr/>
            <p:nvPr/>
          </p:nvSpPr>
          <p:spPr>
            <a:xfrm>
              <a:off x="7143840" y="471492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Down Arrow 10"/>
            <p:cNvSpPr/>
            <p:nvPr/>
          </p:nvSpPr>
          <p:spPr>
            <a:xfrm>
              <a:off x="6000840" y="607248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Down Arrow 11"/>
            <p:cNvSpPr/>
            <p:nvPr/>
          </p:nvSpPr>
          <p:spPr>
            <a:xfrm>
              <a:off x="4500720" y="47862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Down Arrow 12"/>
            <p:cNvSpPr/>
            <p:nvPr/>
          </p:nvSpPr>
          <p:spPr>
            <a:xfrm>
              <a:off x="5786640" y="350028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Down Arrow 13"/>
            <p:cNvSpPr/>
            <p:nvPr/>
          </p:nvSpPr>
          <p:spPr>
            <a:xfrm>
              <a:off x="5786640" y="6072480"/>
              <a:ext cx="71280" cy="428400"/>
            </a:xfrm>
            <a:prstGeom prst="downArrow">
              <a:avLst>
                <a:gd name="adj1" fmla="val 50000"/>
                <a:gd name="adj2" fmla="val 50084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Down Arrow 15"/>
            <p:cNvSpPr/>
            <p:nvPr/>
          </p:nvSpPr>
          <p:spPr>
            <a:xfrm flipV="1" rot="16200000">
              <a:off x="4214520" y="450036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Down Arrow 16"/>
            <p:cNvSpPr/>
            <p:nvPr/>
          </p:nvSpPr>
          <p:spPr>
            <a:xfrm rot="16200000">
              <a:off x="7500960" y="44290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Down Arrow 18"/>
            <p:cNvSpPr/>
            <p:nvPr/>
          </p:nvSpPr>
          <p:spPr>
            <a:xfrm flipV="1">
              <a:off x="5786640" y="292824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571680" y="3214800"/>
            <a:ext cx="3377160" cy="1142640"/>
            <a:chOff x="571680" y="3214800"/>
            <a:chExt cx="3377160" cy="1142640"/>
          </a:xfrm>
        </p:grpSpPr>
        <p:sp>
          <p:nvSpPr>
            <p:cNvPr id="417" name="Down Arrow 19"/>
            <p:cNvSpPr/>
            <p:nvPr/>
          </p:nvSpPr>
          <p:spPr>
            <a:xfrm rot="16200000">
              <a:off x="785880" y="32860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Down Arrow 20"/>
            <p:cNvSpPr/>
            <p:nvPr/>
          </p:nvSpPr>
          <p:spPr>
            <a:xfrm>
              <a:off x="714240" y="3929040"/>
              <a:ext cx="45360" cy="428400"/>
            </a:xfrm>
            <a:prstGeom prst="downArrow">
              <a:avLst>
                <a:gd name="adj1" fmla="val 50000"/>
                <a:gd name="adj2" fmla="val 50370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1"/>
            <p:cNvSpPr/>
            <p:nvPr/>
          </p:nvSpPr>
          <p:spPr>
            <a:xfrm>
              <a:off x="1373760" y="3214800"/>
              <a:ext cx="257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eaction force due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Centripetal accel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22"/>
            <p:cNvSpPr/>
            <p:nvPr/>
          </p:nvSpPr>
          <p:spPr>
            <a:xfrm>
              <a:off x="1509480" y="392904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orce of Gra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t the top of the loop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and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cancel providing a moment of weightlessn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t the bottom of the loop Fc and Fg combine to give a moment of doubled for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4000320" y="3071520"/>
            <a:ext cx="3786480" cy="3572280"/>
            <a:chOff x="4000320" y="3071520"/>
            <a:chExt cx="3786480" cy="3572280"/>
          </a:xfrm>
        </p:grpSpPr>
        <p:sp>
          <p:nvSpPr>
            <p:cNvPr id="424" name="Oval 4"/>
            <p:cNvSpPr/>
            <p:nvPr/>
          </p:nvSpPr>
          <p:spPr>
            <a:xfrm>
              <a:off x="4572000" y="3571920"/>
              <a:ext cx="2571840" cy="2571840"/>
            </a:xfrm>
            <a:prstGeom prst="ellipse">
              <a:avLst/>
            </a:prstGeom>
            <a:noFill/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7072560" y="471492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>
              <a:off x="5715000" y="350028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>
              <a:off x="4429080" y="47865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5786640" y="607248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Down Arrow 9"/>
            <p:cNvSpPr/>
            <p:nvPr/>
          </p:nvSpPr>
          <p:spPr>
            <a:xfrm>
              <a:off x="7143840" y="485784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Down Arrow 10"/>
            <p:cNvSpPr/>
            <p:nvPr/>
          </p:nvSpPr>
          <p:spPr>
            <a:xfrm>
              <a:off x="6000840" y="62154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Down Arrow 11"/>
            <p:cNvSpPr/>
            <p:nvPr/>
          </p:nvSpPr>
          <p:spPr>
            <a:xfrm>
              <a:off x="4500720" y="492912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Down Arrow 12"/>
            <p:cNvSpPr/>
            <p:nvPr/>
          </p:nvSpPr>
          <p:spPr>
            <a:xfrm>
              <a:off x="5786640" y="36432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Down Arrow 13"/>
            <p:cNvSpPr/>
            <p:nvPr/>
          </p:nvSpPr>
          <p:spPr>
            <a:xfrm>
              <a:off x="5786640" y="6215400"/>
              <a:ext cx="71280" cy="428400"/>
            </a:xfrm>
            <a:prstGeom prst="downArrow">
              <a:avLst>
                <a:gd name="adj1" fmla="val 50000"/>
                <a:gd name="adj2" fmla="val 50084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Down Arrow 14"/>
            <p:cNvSpPr/>
            <p:nvPr/>
          </p:nvSpPr>
          <p:spPr>
            <a:xfrm flipV="1" rot="16200000">
              <a:off x="4214520" y="46432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Down Arrow 15"/>
            <p:cNvSpPr/>
            <p:nvPr/>
          </p:nvSpPr>
          <p:spPr>
            <a:xfrm rot="16200000">
              <a:off x="7500960" y="457200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Down Arrow 16"/>
            <p:cNvSpPr/>
            <p:nvPr/>
          </p:nvSpPr>
          <p:spPr>
            <a:xfrm flipV="1">
              <a:off x="5786640" y="307116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571680" y="3429000"/>
            <a:ext cx="3377160" cy="1142640"/>
            <a:chOff x="571680" y="3429000"/>
            <a:chExt cx="3377160" cy="1142640"/>
          </a:xfrm>
        </p:grpSpPr>
        <p:sp>
          <p:nvSpPr>
            <p:cNvPr id="438" name="Down Arrow 18"/>
            <p:cNvSpPr/>
            <p:nvPr/>
          </p:nvSpPr>
          <p:spPr>
            <a:xfrm rot="16200000">
              <a:off x="785880" y="35002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Down Arrow 19"/>
            <p:cNvSpPr/>
            <p:nvPr/>
          </p:nvSpPr>
          <p:spPr>
            <a:xfrm>
              <a:off x="714240" y="4143240"/>
              <a:ext cx="45360" cy="428400"/>
            </a:xfrm>
            <a:prstGeom prst="downArrow">
              <a:avLst>
                <a:gd name="adj1" fmla="val 50000"/>
                <a:gd name="adj2" fmla="val 50370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0"/>
            <p:cNvSpPr/>
            <p:nvPr/>
          </p:nvSpPr>
          <p:spPr>
            <a:xfrm>
              <a:off x="1373760" y="3429000"/>
              <a:ext cx="257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eaction force due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Centripetal accel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1"/>
            <p:cNvSpPr/>
            <p:nvPr/>
          </p:nvSpPr>
          <p:spPr>
            <a:xfrm>
              <a:off x="1509480" y="414324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orce of Gra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1:21:02Z</dcterms:created>
  <dc:creator>rv</dc:creator>
  <dc:description/>
  <dc:language>en-US</dc:language>
  <cp:lastModifiedBy>rv</cp:lastModifiedBy>
  <dcterms:modified xsi:type="dcterms:W3CDTF">2010-04-25T09:21:34Z</dcterms:modified>
  <cp:revision>15</cp:revision>
  <dc:subject/>
  <dc:title>Circular Motion</dc:title>
</cp:coreProperties>
</file>